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201-4CBB-4EB0-92F1-CEFFD957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890-960A-44A8-9C6C-54B4635F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390-F372-45C4-B509-297FEE07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3D6-089A-4520-8BF3-53FD5A13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1CE-95EA-42A8-9CC9-9646581B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19F9-AF69-401B-A762-0E5D58F9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B7B-2DD8-4FF1-9AE1-2F12A51A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B1E-98A6-4E5E-A4DE-1A7C5E12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0A32-AE34-4C52-BAB2-B6090CB6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17F-D678-4575-9625-34702ABC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D02-2D44-44FC-88D2-2C5D5DBF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56F-1D97-45A3-AD11-10BFEA75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D7B7-3765-479A-A3A1-6A3EDB78F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75320" y="45720"/>
            <a:ext cx="10806120" cy="512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Bookman Old Style"/>
              </a:rPr>
              <a:t>85</a:t>
            </a:r>
            <a:r>
              <a:rPr b="1" lang="en-US" sz="6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6600" spc="-1" strike="noStrike">
                <a:solidFill>
                  <a:srgbClr val="ffff00"/>
                </a:solidFill>
                <a:latin typeface="Bookman Old Style"/>
              </a:rPr>
              <a:t>         </a:t>
            </a:r>
            <a:r>
              <a:rPr b="1" lang="bg-BG" sz="66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Кога Господ, Съдията,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тегли нашите дела,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злато ли ще ни намери,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или съвсем без цена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1648080" y="403920"/>
            <a:ext cx="123606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[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:Претеглен в Божиите везни 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Твърде лек намерен!: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219320" y="190080"/>
            <a:ext cx="1200528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Наший Бог ще ли ни каже: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"Верний рабе и блажен"?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О, да станем да работим,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докато е още ден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1648080" y="403920"/>
            <a:ext cx="123606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[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:Претеглен в Божиите везни 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Твърде лек намерен!: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597960" y="117720"/>
            <a:ext cx="1090224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Как отваряме сърца си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за гласа на Дух Свети?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Или бавим се, додето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Той от нас в век отлети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1648080" y="403920"/>
            <a:ext cx="123606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[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:Претеглен в Божиите везни 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Твърде лек намерен!: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7:01:59Z</dcterms:created>
  <dc:creator>TrifonTrifonow</dc:creator>
  <dc:description/>
  <dc:language>en-US</dc:language>
  <cp:lastModifiedBy>TrifonTrifonow</cp:lastModifiedBy>
  <dcterms:modified xsi:type="dcterms:W3CDTF">2005-11-22T08:46:47Z</dcterms:modified>
  <cp:revision>14</cp:revision>
  <dc:subject/>
  <dc:title>Slide 1</dc:title>
</cp:coreProperties>
</file>